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6B41-967E-4D77-99BC-072215EE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AC3F-05CB-43ED-BEA8-B7F6DAE2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32C8-4F9A-421D-AB15-BBFA7C8B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610E-DEAC-4ADB-8271-6DDAB1AAB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63C8-0A69-47E0-9DC3-987570A2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BDE2-E0FA-41B9-A362-CFBA8634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87B3-8C46-4BB7-B2C8-721EEB9B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774C-E5B4-4665-93D3-68AA15A6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DB01-E09F-49A3-BEBB-DFA95CD8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BB53-B589-4190-A2E5-6C6B6114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54E4-2545-4020-9AA2-F41AB18D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079D-39F5-4378-8E7F-6060AC78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C916-A5B3-4DC4-840E-3C2B8E1DA7E7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38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Industry In Europ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65720"/>
            <a:ext cx="6400800" cy="127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The Ruhr Val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uhr Valle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industrial heartland of Europ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located on the western side of Germany and encompasses large cities such as Dortmund and Dusseldorf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ring the Second World War it was one of the prime targets for the Allied For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gion is served by two of Europe's largest rivers, the Ruhr and the Rhi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allowed the region to develop as they initially provided power, as well as transport, which is still used tod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ge barges travel along the River Rhine loaded with raw materials or the produce of the Ruhr Valley indust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ts central location makes it a perfect place for industry, as export to the whole of Europe is very easy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many local cities mean that there is a huge workforce in the area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Natural resources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occur in abundance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se were the main reason for the industry locating here in the first place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re are huge deposits of coal, which powered the heavy industries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Manufacturing Indu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uhr Valley is primarily an area of heav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nufacturing indust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such as steel manufacture, chemical production and engineer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 the past half century the car manufacture industry has also grown massively in the area, as well as food processing and oil ref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, with the natural resources slowly declining, there has had to have been a move towards more hi-tech industries locating in the are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has helped the area, however there is still a problem of unemployment due to the traditional industries, upon which the area relies so heavily, having to become more mechanised and effici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4:22:18Z</dcterms:created>
  <dc:creator>Dell_02</dc:creator>
  <dc:description/>
  <dc:language>en-US</dc:language>
  <cp:lastModifiedBy>Dell_02</cp:lastModifiedBy>
  <dcterms:modified xsi:type="dcterms:W3CDTF">2011-01-27T04:29:02Z</dcterms:modified>
  <cp:revision>1</cp:revision>
  <dc:subject/>
  <dc:title>Industry In Europe</dc:title>
</cp:coreProperties>
</file>